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7ED45-017B-4E05-BD64-3EECA7793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B6ACF-4866-4D5A-9CFA-18DCBF01B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9A31BE-0ABB-4D8C-BFD5-249F41A59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96D813-63F4-4B49-BA1E-9C53B408D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A4C137-3DF3-4BA3-8BAF-8821BC996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602CB5-0344-4B3C-B619-BAC24DCBC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C2BC6B-353D-48C9-B0F7-FB9F2A3A2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1D441D-D700-4EF1-B4B0-16E331B2F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A9F049-C364-46EC-8A47-11C1024E4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C45E88-6A02-45D5-8A52-5EB81F870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B50241-1060-4205-994A-CCC8668F2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FAED6E-77F1-4170-B649-86D527C03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4C46C-CECE-4FD9-A4EC-9B1523860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9D21F2-1EEF-4A66-B8B4-F653C39FB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E75256-7CB7-4528-9147-3EE843268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3C3063-36F7-473F-AF04-904E308E0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271253-4FC7-4859-87B1-097068C56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6ACB16-A643-4EB2-9194-9D65E3022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101ABC-DF60-4CE7-BB8C-95BC070FC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917442-D586-478E-A71D-519284BE3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28055B-AAAC-41D9-8E52-1A439673F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059229-FAFD-4ADA-877D-BB3549C1E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A7FD6D-022E-4463-BBFE-D6839433B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7AFF9-A013-4C8A-B2E4-44453345A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0BCFEF-C033-45A2-8FD4-8E4555A97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9C2395-DACD-4168-90B8-2DCA37854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82A9EF-92D8-4041-914F-DC505EA61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BBF05D-43F3-4A32-9544-4EDC676C7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52ED7F-7C3E-402E-AAEF-462408F57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D78DD0-BE19-4AA8-898C-221EB92D3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232D72-6409-43F8-93A9-4AEECBA71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8254E1-AD0B-4ADF-B61B-29F8F7707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ECADCA-F892-4957-A02F-ADE6C3203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F3E78D-DF5F-4CD7-A4FF-D284D7FC4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EBBD2-C769-4B9B-A276-99BF31981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2AB23C-0629-4B25-9B3C-15F8B90B0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97B66D-0321-4FC0-9335-9CDB642F8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A3A92B-F35D-4809-96EC-8124A39DA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1B4280-39DE-428B-A502-E67444E01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8F9817-695E-4678-A0AE-0E70D7521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757DCD-4675-4FE7-8A39-2672E086C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764D8A-B7A3-4C35-AE22-37B66AD07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A160F7-570C-4103-AB88-F0E75F6D1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D10752-7B1A-40E8-B4CA-C5F1713F0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6627E5-22BC-4259-BE27-2718449F5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C8268-89F8-4E34-94E2-DAC8D95A5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84E451-A3A9-4273-803F-E49E115FB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256BFB-66CD-4AE7-9D48-D0522ED63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7D0FB2-DEF5-4F03-AA3D-79CF5E1CC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EFBE2D-E87B-4D29-BA5D-11DA3E803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99C94E-2407-4C09-9248-798045E49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B4E0947-BFF6-4ACA-B80E-4F1AF5371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B208B9E-7A67-47A8-BE8D-E4D298A9E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E15DAA1-4C5A-4279-AE06-E984C4350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5F579FF-8D74-406E-9B88-451CE397F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FB6082B-6969-4309-8DBB-A9D8366E9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4B1B2-3223-4A56-9B63-FD2C7D89E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E48F5EA-5DAC-4CBA-B0AA-8324A1938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AF91ACC-1BD4-449D-95D3-856F99D9D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DC297BF-DB0D-4253-9369-AF12336B5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A46976A-E750-4F87-A1DE-909F2DAF4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14DCE88-E1D3-4C81-AFE0-179C2DB27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94E997A-76EF-4684-A190-3B579D2F3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3DA9C70-B9E8-4328-9A90-C9DF8CFBE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F04A5B5-9A79-4E76-81B4-6261EB0FD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39004F6-E0A0-48A4-8CEE-765F8D000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3CBE50D-580C-4E87-8920-BFD2D76CA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1655C-9111-46F5-810A-B82B6D264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E9352CB-97DA-4140-AA85-712CBC48B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4F785B6-EA26-4118-80CD-69A4AB74D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70ED91E-EB26-4F64-9B7F-3D1B66D85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73B1B89-228D-4859-8EEC-28C1D1C05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84355A0-CC32-4B43-8998-69AD46D64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C170D71-5608-4B2B-933E-BA518C45B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3F7AEA5-878D-4948-9B29-ADA69814A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2BC816A-BA67-40FD-8F09-00C778218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F1C280F-F8E1-4AAB-AA62-339361BA2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C181C5F-82DD-4EEA-B80F-A5EE2D5B9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E0827-C1A0-4BE0-ADF6-1CC535BFE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9F2ADB4-22F4-4F7E-BFD1-2F6E06F7A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C85039A-5220-43C6-932A-DABEE7BA2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9E89298-6C20-46C3-A4FC-86A053A48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83F542B-8C89-4CA6-8CE6-F5BAFF9AC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54F08C2-E2B1-4DD0-9661-8AABE8B10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02E5830-4A1A-49FB-A6FA-44A192CAA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5DB3712-FFCE-4D58-8225-0D793ED5A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FB9E23C-5188-475C-826C-7F40FA267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EC6D678-297C-4CA9-BDF2-4CAD5D752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DD60A83-3F22-488C-A9BA-025457D69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35010-59F1-4FDE-BC10-37290D84F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68763B1-F26B-4BE3-A4F9-B25F7899A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19300F2-AFD3-46CB-A785-312C39D41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C8B9106-DE05-4CC0-BBFC-78732AB6B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63809AB-C83C-4EEE-AD8C-8E9E8F1E4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781E17C-BFD8-4650-BBDC-737D81CEC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DF4D12F-08EC-437B-B749-2A8392A72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DE1FBA5-2E58-401A-9C00-ADCFD32A1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664C87E-2669-4945-8751-680A9500E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03BFA65-582A-430F-8801-987050507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4A92FCC-7160-4CE6-A674-5825005AA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2F9DC-F6BB-4A97-8345-D50DBD1BB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2F27BAA-85DA-4E04-B01B-02F03D503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4A6DFF4-7825-4E0D-A4C0-C8D06AC76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0C135FC-16D4-4BD1-87CD-5A5CECB70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E26356C-F22C-41E6-95C1-78BA95382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2C184FD-22ED-400B-A7C0-4F57B1B8E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E835C7A-014B-4A20-AD51-24819C974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E318BC9-E25C-4FA3-812F-E552DF9BE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7C53D3C-D404-4D6F-999D-DF589F97D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D5E79B8-CE95-42FC-BAC4-D036C1446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810D1E8-F611-4C35-8482-5EB173B3B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BC02F-72A1-4F8B-9AB7-46CC38117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9B1D1-FF43-4CD6-BF12-369A6BC8B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1DF9680-A7F0-496C-A222-BADECFAA0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C23F10C-8A3F-499F-BFD9-603500E08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B709657-EC1C-453D-B58E-8BA3C90E4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D205A78-9798-42C8-83ED-B9124389D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28704A8-AC8B-466A-8571-1E3B2F13F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1F60848-0659-4C23-A60F-139FE29A5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B7B5873-3C20-4C25-953A-FF158AEF3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3248239-740D-4BB9-860E-E8230A5B0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FCBB273-23E9-4B1D-8475-77E4D3855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5900984-31AA-4F5A-AEA3-72E646D22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F1E5F-A26F-4BC8-8C80-35DB165C9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51E430E-CF2C-4B09-9B39-6DE003F96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3D83901-2581-4782-9C9E-EE4C43FB0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46A17BB-A8DE-4A4F-A08A-F93C4EEEF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D7C997C-9DD4-40B2-8B9B-3D6D40E87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5CD9E10-7608-404C-8E2A-27525B647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A7955EA-9CD9-4286-B051-9608BE728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2D56778-67F7-401A-8009-BAF6A60B6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185A750-B40A-460A-A3B4-B04F3D430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8EF0F38-94DD-4CC9-B457-3BD08BC05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DF7CC4B-5E2A-40F4-B538-BED86C7FD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C76C9-201E-4CD9-8D98-F9141C015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90EBCD5-26D1-4AA4-BE36-D7B83D0B1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2E208CA-3991-4DCE-A06C-E2D247C53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43D6994-8CFF-4C9D-A39B-9E7BC8C2B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46748D5-2F18-49BD-A3F9-F1AA6D15B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4204551-38D6-4C8C-94C1-9E875E5FD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CD9B9DD-887F-466E-BEED-B923E9D3D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9314E0E-6A01-4C42-9B93-161C1D0D1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02D0C1C-7432-4931-9E66-27699C260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2B613CB-7F55-4164-AC66-9E8489E5F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2B68889-CFA4-46C1-A1F6-1F793DDE0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DD17B-A199-471E-92A6-91A9BF029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909E26F-0E10-4352-9C08-25398E356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6DDB438-9D95-4091-8F90-53EC0356D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00429F3-104D-4748-A1B1-2F934D7E0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AFED3A2-9086-4952-A2F1-AE9962BE4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2DCA8BB-0D52-4ED7-A8AF-688C3D589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4B8361B-2035-4F84-A58C-76714D6D3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50DB342-1E65-49E3-A2BE-DB3E3BF99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CB1F2F2-D661-4505-865F-45735344D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A9309A1-956F-4B7A-8656-4AAE8BE17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C17C998-1A85-4F17-ABA2-730AC686C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814AB-F7CE-4080-ACC3-2D476F5BB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F07962B-2BCD-43E0-8EE8-1D2C0FB5E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B91F06D-E5FA-4B92-B5FC-323DCBF17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10C2DDD-09E5-45F7-B5E3-6EE787BFB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A4D0892-5332-4D00-BAE1-629E965E7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C57B48F-4663-4003-9ED2-42291A38C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55ADD11-1618-43E7-800C-79711D0BA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2A4CE12-04FA-47AA-8AC8-5CA4A1295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5DBB27B-4C25-4E94-98A3-F8175D47E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FF5AD1C-06CA-45CC-973A-46F367BA5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5D866EA-A8EE-4E9D-B117-09A462E35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33064C-AC1D-4099-BBC7-ED070EBB6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4A7619A-98B5-4341-8AD0-B34E0B1A7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9FE3F63-4EA6-47F1-BC7B-9F36939D0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0CB6104-C9FE-4116-8F32-7CC2E4A1E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7A1BB1-D2DF-455B-9841-1A6CDA247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DA1459-FB9E-4406-B45D-F5B1246C4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0932EA-9A43-47F1-9F8B-FE189B41F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2C9638-EC55-4666-908F-1512267E8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7133F-4365-4D5A-81F4-0E2242F35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8A7F01-3AB4-4565-9D7F-E295B13A3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33068E-7969-4F77-8271-7B6D4A533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19A993-93F9-478D-B72E-A7F9546B0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50B095-4AEC-44D8-961A-0B0663867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404439-6476-4F02-8CEF-382BA0CA0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A2B2BC-F21F-4285-A9BB-908D97B3A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A17F6C-961E-4C73-98E8-DD2D7E19F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D257A6-DC84-4423-AE7C-FA6C6AFA5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4ACAD7-C31D-4461-BA45-314A18617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377934-BD86-43BE-9A34-002CC61D4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2F3F0-5128-4B1C-992D-BCAAF50DC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CF3188-B694-449A-9F5F-A860ACDDB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1361A8-D2B0-48E0-AA3D-E4D158236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B6CA68-192D-4EF1-A604-347AD47BB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2D25AD-F234-4C20-AACE-F44373D72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D7EE01-4D9D-422E-8AC6-AD8033A97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29CE7D-03D8-45F4-BD69-724691A8B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B5137E-C61B-40C6-926F-D5565364B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C758C8-02F3-4592-A573-F48C93A0F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104A05-EC10-49D6-BD7A-3773EA60C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32F798-2992-41EB-A66E-7F20B717E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EC8B2-2031-43DB-82C3-8AFB32A4C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96E8B7-BFD2-4DF1-810C-415C36C66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4F4CC7-BA30-4171-B349-14D9CA88A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0B888E-0886-46B0-A4B3-9097A16D5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91AA61-FAAF-4B44-B8E1-7F3752B0B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107A08-2095-4454-B326-472D0F5E4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295126-C48A-46CC-AE93-EC7F6BC5C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EDC2A3-A5FF-4B0A-ABA4-CDE9BC680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267C5F-CB51-4573-9168-5FAF04BA2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41AADB-D8A0-45CF-98D4-F5F0D8584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9A77ED-66AB-4F15-BED5-FEB80A2C4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6F654-0E99-4A60-BBB4-E978BF99F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079992-4DE3-470B-9F15-4D2D13A69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AB56DF-D675-4D36-8592-46157D367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9666BC-22A3-49BA-BE21-168E5F019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DEF3B3-BCB1-46FE-8AD6-A8ED6DCBA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F78EB6-90D7-41C2-9A4B-CF99C7C75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B10915-9343-4923-AD9B-FEC8BDA2A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A9123D-AD5A-424F-8B41-4A23B630D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4DD84D-68BD-42A0-8978-89C1176B1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EFEE14-F3F9-4D4E-A1A9-92322C1E9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8180B5-6436-485C-82FB-2DA5FCDEF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226CB-31E2-4BEF-9186-22B7BCF4F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192272-F24D-49BC-921D-F84C97DFC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AFE82B-B651-4C70-9469-D1EDA16A5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A774AE-95F4-4C7E-BF14-210AF5105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6E02C2-993F-46C9-BB06-A007B5230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F9A8C6-5D27-4C32-8B21-A530923AD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8BAA9A-FB8A-47EB-BF3D-7853E31C3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F3D535-CE9F-42AF-BEB4-4DA71303F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E577EB-BF28-44B4-89AB-3D0364D6C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A41EB2-6DF5-4178-9686-5F8F8A47C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55F149-C097-4CBA-89F6-AEC9BC239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F11F7-68C4-4A11-9875-F2BA003CF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B4A375-4BD1-40B6-B28B-A2F6EF656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35B0A9-8074-4C49-9A79-61B63A8F1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600DB8-7C4F-484C-BC8E-4BE5EE150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6987BA-EE0A-415A-8D52-795D3F909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2939F7-B2A8-42E9-AC69-4E69AA434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401E40-F295-464A-8650-932CE0DCC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F2DE62-CD10-46F8-B9C6-1B4AFFC4C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5D49DD-9553-4A0E-B1B7-9EFB9615B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65C068-CE79-4910-A1E9-DC9AAA6E6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56E392-A5B6-4C42-9288-ECB918867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D3207-E2D1-4CF6-BCDF-AB9A51CD3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EF316B-7661-4DCE-970B-4064E0B48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6CFA02-4C73-4795-A7D0-10367C71B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B2F6AB-7E8E-4A9C-B03B-18CA3A3D9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FCF6CA-3E1A-4CDC-AD5E-6D8AD3355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BF8751-88C0-460E-863F-5EE8ADC3F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94E867-F930-455A-B274-9D4B14538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9CF293-9D8B-47BE-B5F8-436B17B10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BE8E5B-E93F-4442-87E3-E5650958F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40463F-7E8F-41D8-99A0-5E978B0E5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310A3D-F8AE-4841-B8EB-313736741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68FA2-CEB2-4485-88E6-D7D90A7A658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A153A-5DF1-4BFD-94F5-730A68A2412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C5F77-9F0A-4DAE-A1C3-5ABB2C49C55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115C0-65AA-4291-9A71-D684F5F4FC4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3312B-7737-432E-A721-B3D99ABF0DF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2909D-B63E-4F04-80E4-4CC7007511F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1249C-CC10-4711-80FB-A2197F29B99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315AF-91E6-4EB7-AF8E-46D8696F01C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21B70-86A9-43B3-B92B-E6722EE6A1E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6F588-0A3C-4B25-8EB9-ABCB469E8C7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4585C-5328-4792-B4AB-CC8B1AE160C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8CD4F-29DA-4A2E-862D-9037046FB82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7D27A-71AE-4729-8EE1-221FF21C0C8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09FE5-06F9-4167-8E32-5C5E4B43678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5C530-255D-4A04-8048-BC5BDFE9353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725ED-7B8D-45FF-98E3-6E64A04369A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72475-F52D-4013-BFB1-856228A1D65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3EB43-8AD4-4E81-AA35-BD0A192E426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53595-0FC0-4BFF-9E5F-05453B57D46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A778C-DDF9-4F06-A00F-F117DEB4D8A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8A741-E6E7-4D8D-A9F2-9024B0D2553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77A3E-16DE-484D-8DA8-AF56E3CD060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21441-89DA-4378-BA29-F2337417F42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AC5AC-EBE6-4901-AC95-1A468335676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0521F-B591-42AB-8A4F-E0B84E47D96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66692-55AA-4D39-B2DD-E15CEC5A249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279A2-F33A-45DB-A05C-045975622A7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95835-69E8-4BAC-80A3-E578DE2F3AF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F98A7-F8D3-43A3-9F19-05AEC01245E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48ED4-F577-4327-895B-95EC4AB5CB9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CB111-77C6-4BB7-B6F4-54FFE6E7A80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7E378-BD7A-485C-989C-09D98B24B64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916EC-86F1-410F-93D3-5A1EBDD36B8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B2C5D-CB90-45DC-9522-1FC59F36916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2B4FB-73B7-4113-B27D-2AD7E249447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435DE-87DA-468D-A920-DAB002B1C10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242C3-AE62-4FFA-A396-52E5C7E59C4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96FA7-9C0F-4B6A-B030-D01BAB065F2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54E17-D526-40CD-BB55-DB6EB414D2F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4A25D-CB79-455B-80CD-BAA811B05CB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11.png"/><Relationship Id="rId11" Type="http://schemas.openxmlformats.org/officeDocument/2006/relationships/image" Target="../media/image11.png"/><Relationship Id="rId12" Type="http://schemas.openxmlformats.org/officeDocument/2006/relationships/image" Target="../media/image11.png"/><Relationship Id="rId1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3352680" y="1989000"/>
            <a:ext cx="2438640" cy="771840"/>
          </a:xfrm>
          <a:prstGeom prst="rect">
            <a:avLst/>
          </a:prstGeom>
          <a:ln w="0">
            <a:noFill/>
          </a:ln>
        </p:spPr>
      </p:pic>
      <p:pic>
        <p:nvPicPr>
          <p:cNvPr id="922" name="图片 28679" descr=""/>
          <p:cNvPicPr/>
          <p:nvPr/>
        </p:nvPicPr>
        <p:blipFill>
          <a:blip r:embed="rId2"/>
          <a:stretch/>
        </p:blipFill>
        <p:spPr>
          <a:xfrm>
            <a:off x="1066680" y="3411360"/>
            <a:ext cx="7010640" cy="8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9" name="图片 69633" descr=""/>
          <p:cNvPicPr/>
          <p:nvPr/>
        </p:nvPicPr>
        <p:blipFill>
          <a:blip r:embed="rId1"/>
          <a:stretch/>
        </p:blipFill>
        <p:spPr>
          <a:xfrm>
            <a:off x="309600" y="76320"/>
            <a:ext cx="8524800" cy="6705360"/>
          </a:xfrm>
          <a:prstGeom prst="rect">
            <a:avLst/>
          </a:prstGeom>
          <a:ln w="0">
            <a:noFill/>
          </a:ln>
        </p:spPr>
      </p:pic>
      <p:pic>
        <p:nvPicPr>
          <p:cNvPr id="950" name="Picture 1" descr=""/>
          <p:cNvPicPr/>
          <p:nvPr/>
        </p:nvPicPr>
        <p:blipFill>
          <a:blip r:embed="rId2"/>
          <a:stretch/>
        </p:blipFill>
        <p:spPr>
          <a:xfrm>
            <a:off x="684360" y="2781360"/>
            <a:ext cx="4967280" cy="447480"/>
          </a:xfrm>
          <a:prstGeom prst="rect">
            <a:avLst/>
          </a:prstGeom>
          <a:ln w="0">
            <a:noFill/>
          </a:ln>
        </p:spPr>
      </p:pic>
      <p:pic>
        <p:nvPicPr>
          <p:cNvPr id="951" name="Picture 1" descr=""/>
          <p:cNvPicPr/>
          <p:nvPr/>
        </p:nvPicPr>
        <p:blipFill>
          <a:blip r:embed="rId3"/>
          <a:stretch/>
        </p:blipFill>
        <p:spPr>
          <a:xfrm>
            <a:off x="684360" y="3457440"/>
            <a:ext cx="4967280" cy="447840"/>
          </a:xfrm>
          <a:prstGeom prst="rect">
            <a:avLst/>
          </a:prstGeom>
          <a:ln w="0">
            <a:noFill/>
          </a:ln>
        </p:spPr>
      </p:pic>
      <p:pic>
        <p:nvPicPr>
          <p:cNvPr id="952" name="Picture 1" descr=""/>
          <p:cNvPicPr/>
          <p:nvPr/>
        </p:nvPicPr>
        <p:blipFill>
          <a:blip r:embed="rId4"/>
          <a:stretch/>
        </p:blipFill>
        <p:spPr>
          <a:xfrm>
            <a:off x="971640" y="4192560"/>
            <a:ext cx="7488000" cy="447840"/>
          </a:xfrm>
          <a:prstGeom prst="rect">
            <a:avLst/>
          </a:prstGeom>
          <a:ln w="0">
            <a:noFill/>
          </a:ln>
        </p:spPr>
      </p:pic>
      <p:pic>
        <p:nvPicPr>
          <p:cNvPr id="953" name="Picture 1" descr=""/>
          <p:cNvPicPr/>
          <p:nvPr/>
        </p:nvPicPr>
        <p:blipFill>
          <a:blip r:embed="rId5"/>
          <a:stretch/>
        </p:blipFill>
        <p:spPr>
          <a:xfrm>
            <a:off x="826920" y="4927680"/>
            <a:ext cx="7488360" cy="447480"/>
          </a:xfrm>
          <a:prstGeom prst="rect">
            <a:avLst/>
          </a:prstGeom>
          <a:ln w="0">
            <a:noFill/>
          </a:ln>
        </p:spPr>
      </p:pic>
      <p:pic>
        <p:nvPicPr>
          <p:cNvPr id="954" name="Picture 1" descr=""/>
          <p:cNvPicPr/>
          <p:nvPr/>
        </p:nvPicPr>
        <p:blipFill>
          <a:blip r:embed="rId6"/>
          <a:stretch/>
        </p:blipFill>
        <p:spPr>
          <a:xfrm>
            <a:off x="884160" y="5559480"/>
            <a:ext cx="8064720" cy="123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4" dur="10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9" dur="10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4" dur="10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9" dur="10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4" dur="10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5" name="图片 68609" descr=""/>
          <p:cNvPicPr/>
          <p:nvPr/>
        </p:nvPicPr>
        <p:blipFill>
          <a:blip r:embed="rId1"/>
          <a:stretch/>
        </p:blipFill>
        <p:spPr>
          <a:xfrm>
            <a:off x="890640" y="1125360"/>
            <a:ext cx="7362720" cy="2248200"/>
          </a:xfrm>
          <a:prstGeom prst="rect">
            <a:avLst/>
          </a:prstGeom>
          <a:ln w="0">
            <a:noFill/>
          </a:ln>
        </p:spPr>
      </p:pic>
      <p:pic>
        <p:nvPicPr>
          <p:cNvPr id="956" name="图片 68610" descr=""/>
          <p:cNvPicPr/>
          <p:nvPr/>
        </p:nvPicPr>
        <p:blipFill>
          <a:blip r:embed="rId2"/>
          <a:stretch/>
        </p:blipFill>
        <p:spPr>
          <a:xfrm>
            <a:off x="390600" y="3635280"/>
            <a:ext cx="8362800" cy="2314800"/>
          </a:xfrm>
          <a:prstGeom prst="rect">
            <a:avLst/>
          </a:prstGeom>
          <a:ln w="0">
            <a:noFill/>
          </a:ln>
        </p:spPr>
      </p:pic>
      <p:pic>
        <p:nvPicPr>
          <p:cNvPr id="957" name="Picture 1" descr=""/>
          <p:cNvPicPr/>
          <p:nvPr/>
        </p:nvPicPr>
        <p:blipFill>
          <a:blip r:embed="rId3"/>
          <a:stretch/>
        </p:blipFill>
        <p:spPr>
          <a:xfrm>
            <a:off x="4500720" y="1730520"/>
            <a:ext cx="502920" cy="447480"/>
          </a:xfrm>
          <a:prstGeom prst="rect">
            <a:avLst/>
          </a:prstGeom>
          <a:ln w="0">
            <a:noFill/>
          </a:ln>
        </p:spPr>
      </p:pic>
      <p:pic>
        <p:nvPicPr>
          <p:cNvPr id="958" name="Picture 1" descr=""/>
          <p:cNvPicPr/>
          <p:nvPr/>
        </p:nvPicPr>
        <p:blipFill>
          <a:blip r:embed="rId4"/>
          <a:stretch/>
        </p:blipFill>
        <p:spPr>
          <a:xfrm>
            <a:off x="4284720" y="234936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959" name="Picture 1" descr=""/>
          <p:cNvPicPr/>
          <p:nvPr/>
        </p:nvPicPr>
        <p:blipFill>
          <a:blip r:embed="rId5"/>
          <a:stretch/>
        </p:blipFill>
        <p:spPr>
          <a:xfrm>
            <a:off x="7280280" y="1700280"/>
            <a:ext cx="676440" cy="447480"/>
          </a:xfrm>
          <a:prstGeom prst="rect">
            <a:avLst/>
          </a:prstGeom>
          <a:ln w="0">
            <a:noFill/>
          </a:ln>
        </p:spPr>
      </p:pic>
      <p:pic>
        <p:nvPicPr>
          <p:cNvPr id="960" name="Picture 1" descr=""/>
          <p:cNvPicPr/>
          <p:nvPr/>
        </p:nvPicPr>
        <p:blipFill>
          <a:blip r:embed="rId6"/>
          <a:stretch/>
        </p:blipFill>
        <p:spPr>
          <a:xfrm>
            <a:off x="7236000" y="2290680"/>
            <a:ext cx="676080" cy="447840"/>
          </a:xfrm>
          <a:prstGeom prst="rect">
            <a:avLst/>
          </a:prstGeom>
          <a:ln w="0">
            <a:noFill/>
          </a:ln>
        </p:spPr>
      </p:pic>
      <p:pic>
        <p:nvPicPr>
          <p:cNvPr id="961" name="Picture 1" descr=""/>
          <p:cNvPicPr/>
          <p:nvPr/>
        </p:nvPicPr>
        <p:blipFill>
          <a:blip r:embed="rId7"/>
          <a:stretch/>
        </p:blipFill>
        <p:spPr>
          <a:xfrm>
            <a:off x="1908000" y="4221000"/>
            <a:ext cx="1008360" cy="447840"/>
          </a:xfrm>
          <a:prstGeom prst="rect">
            <a:avLst/>
          </a:prstGeom>
          <a:ln w="0">
            <a:noFill/>
          </a:ln>
        </p:spPr>
      </p:pic>
      <p:pic>
        <p:nvPicPr>
          <p:cNvPr id="962" name="Picture 1" descr=""/>
          <p:cNvPicPr/>
          <p:nvPr/>
        </p:nvPicPr>
        <p:blipFill>
          <a:blip r:embed="rId8"/>
          <a:stretch/>
        </p:blipFill>
        <p:spPr>
          <a:xfrm>
            <a:off x="2152800" y="4869000"/>
            <a:ext cx="1008000" cy="447480"/>
          </a:xfrm>
          <a:prstGeom prst="rect">
            <a:avLst/>
          </a:prstGeom>
          <a:ln w="0">
            <a:noFill/>
          </a:ln>
        </p:spPr>
      </p:pic>
      <p:pic>
        <p:nvPicPr>
          <p:cNvPr id="963" name="Picture 1" descr=""/>
          <p:cNvPicPr/>
          <p:nvPr/>
        </p:nvPicPr>
        <p:blipFill>
          <a:blip r:embed="rId9"/>
          <a:stretch/>
        </p:blipFill>
        <p:spPr>
          <a:xfrm>
            <a:off x="5148360" y="4221000"/>
            <a:ext cx="1008000" cy="447840"/>
          </a:xfrm>
          <a:prstGeom prst="rect">
            <a:avLst/>
          </a:prstGeom>
          <a:ln w="0">
            <a:noFill/>
          </a:ln>
        </p:spPr>
      </p:pic>
      <p:pic>
        <p:nvPicPr>
          <p:cNvPr id="964" name="Picture 1" descr=""/>
          <p:cNvPicPr/>
          <p:nvPr/>
        </p:nvPicPr>
        <p:blipFill>
          <a:blip r:embed="rId10"/>
          <a:stretch/>
        </p:blipFill>
        <p:spPr>
          <a:xfrm>
            <a:off x="5076720" y="4869000"/>
            <a:ext cx="1008000" cy="447480"/>
          </a:xfrm>
          <a:prstGeom prst="rect">
            <a:avLst/>
          </a:prstGeom>
          <a:ln w="0">
            <a:noFill/>
          </a:ln>
        </p:spPr>
      </p:pic>
      <p:pic>
        <p:nvPicPr>
          <p:cNvPr id="965" name="Picture 1" descr=""/>
          <p:cNvPicPr/>
          <p:nvPr/>
        </p:nvPicPr>
        <p:blipFill>
          <a:blip r:embed="rId11"/>
          <a:stretch/>
        </p:blipFill>
        <p:spPr>
          <a:xfrm>
            <a:off x="8317080" y="4249800"/>
            <a:ext cx="576000" cy="447480"/>
          </a:xfrm>
          <a:prstGeom prst="rect">
            <a:avLst/>
          </a:prstGeom>
          <a:ln w="0">
            <a:noFill/>
          </a:ln>
        </p:spPr>
      </p:pic>
      <p:pic>
        <p:nvPicPr>
          <p:cNvPr id="966" name="Picture 1" descr=""/>
          <p:cNvPicPr/>
          <p:nvPr/>
        </p:nvPicPr>
        <p:blipFill>
          <a:blip r:embed="rId12"/>
          <a:stretch/>
        </p:blipFill>
        <p:spPr>
          <a:xfrm>
            <a:off x="8101080" y="4897440"/>
            <a:ext cx="57636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1" dur="10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6" dur="10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1" dur="10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6" dur="10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1" dur="10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6" dur="10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1" dur="10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6" dur="10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1" dur="10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6" dur="10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3" name="图片 60428" descr=""/>
          <p:cNvPicPr/>
          <p:nvPr/>
        </p:nvPicPr>
        <p:blipFill>
          <a:blip r:embed="rId1"/>
          <a:stretch/>
        </p:blipFill>
        <p:spPr>
          <a:xfrm>
            <a:off x="266760" y="1014480"/>
            <a:ext cx="8610480" cy="482904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1" descr=""/>
          <p:cNvPicPr/>
          <p:nvPr/>
        </p:nvPicPr>
        <p:blipFill>
          <a:blip r:embed="rId2"/>
          <a:stretch/>
        </p:blipFill>
        <p:spPr>
          <a:xfrm>
            <a:off x="7451640" y="3068640"/>
            <a:ext cx="1441440" cy="44784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1" descr=""/>
          <p:cNvPicPr/>
          <p:nvPr/>
        </p:nvPicPr>
        <p:blipFill>
          <a:blip r:embed="rId3"/>
          <a:stretch/>
        </p:blipFill>
        <p:spPr>
          <a:xfrm>
            <a:off x="1187280" y="3673440"/>
            <a:ext cx="1009800" cy="44784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1" descr=""/>
          <p:cNvPicPr/>
          <p:nvPr/>
        </p:nvPicPr>
        <p:blipFill>
          <a:blip r:embed="rId4"/>
          <a:stretch/>
        </p:blipFill>
        <p:spPr>
          <a:xfrm>
            <a:off x="6804000" y="3687840"/>
            <a:ext cx="1152720" cy="44748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1" descr=""/>
          <p:cNvPicPr/>
          <p:nvPr/>
        </p:nvPicPr>
        <p:blipFill>
          <a:blip r:embed="rId5"/>
          <a:stretch/>
        </p:blipFill>
        <p:spPr>
          <a:xfrm>
            <a:off x="3492360" y="4826160"/>
            <a:ext cx="115272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" dur="10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" dur="10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" dur="10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8" name="图片 59410" descr=""/>
          <p:cNvPicPr/>
          <p:nvPr/>
        </p:nvPicPr>
        <p:blipFill>
          <a:blip r:embed="rId1"/>
          <a:stretch/>
        </p:blipFill>
        <p:spPr>
          <a:xfrm>
            <a:off x="623880" y="1719360"/>
            <a:ext cx="7896240" cy="341928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1" descr=""/>
          <p:cNvPicPr/>
          <p:nvPr/>
        </p:nvPicPr>
        <p:blipFill>
          <a:blip r:embed="rId2"/>
          <a:stretch/>
        </p:blipFill>
        <p:spPr>
          <a:xfrm>
            <a:off x="4140360" y="1757520"/>
            <a:ext cx="1008000" cy="44748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1" descr=""/>
          <p:cNvPicPr/>
          <p:nvPr/>
        </p:nvPicPr>
        <p:blipFill>
          <a:blip r:embed="rId3"/>
          <a:stretch/>
        </p:blipFill>
        <p:spPr>
          <a:xfrm>
            <a:off x="3924360" y="2349360"/>
            <a:ext cx="1008000" cy="447840"/>
          </a:xfrm>
          <a:prstGeom prst="rect">
            <a:avLst/>
          </a:prstGeom>
          <a:ln w="0">
            <a:noFill/>
          </a:ln>
        </p:spPr>
      </p:pic>
      <p:pic>
        <p:nvPicPr>
          <p:cNvPr id="931" name="Picture 1" descr=""/>
          <p:cNvPicPr/>
          <p:nvPr/>
        </p:nvPicPr>
        <p:blipFill>
          <a:blip r:embed="rId4"/>
          <a:stretch/>
        </p:blipFill>
        <p:spPr>
          <a:xfrm>
            <a:off x="5148360" y="2924280"/>
            <a:ext cx="1008000" cy="447480"/>
          </a:xfrm>
          <a:prstGeom prst="rect">
            <a:avLst/>
          </a:prstGeom>
          <a:ln w="0">
            <a:noFill/>
          </a:ln>
        </p:spPr>
      </p:pic>
      <p:pic>
        <p:nvPicPr>
          <p:cNvPr id="932" name="Picture 1" descr=""/>
          <p:cNvPicPr/>
          <p:nvPr/>
        </p:nvPicPr>
        <p:blipFill>
          <a:blip r:embed="rId5"/>
          <a:stretch/>
        </p:blipFill>
        <p:spPr>
          <a:xfrm>
            <a:off x="1692360" y="3500280"/>
            <a:ext cx="1942920" cy="447840"/>
          </a:xfrm>
          <a:prstGeom prst="rect">
            <a:avLst/>
          </a:prstGeom>
          <a:ln w="0">
            <a:noFill/>
          </a:ln>
        </p:spPr>
      </p:pic>
      <p:pic>
        <p:nvPicPr>
          <p:cNvPr id="933" name="Picture 1" descr=""/>
          <p:cNvPicPr/>
          <p:nvPr/>
        </p:nvPicPr>
        <p:blipFill>
          <a:blip r:embed="rId6"/>
          <a:stretch/>
        </p:blipFill>
        <p:spPr>
          <a:xfrm>
            <a:off x="5292720" y="4076640"/>
            <a:ext cx="1008000" cy="447840"/>
          </a:xfrm>
          <a:prstGeom prst="rect">
            <a:avLst/>
          </a:prstGeom>
          <a:ln w="0">
            <a:noFill/>
          </a:ln>
        </p:spPr>
      </p:pic>
      <p:pic>
        <p:nvPicPr>
          <p:cNvPr id="934" name="Picture 1" descr=""/>
          <p:cNvPicPr/>
          <p:nvPr/>
        </p:nvPicPr>
        <p:blipFill>
          <a:blip r:embed="rId7"/>
          <a:stretch/>
        </p:blipFill>
        <p:spPr>
          <a:xfrm>
            <a:off x="1476360" y="4653000"/>
            <a:ext cx="100800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" dur="10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" dur="10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7" dur="10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2" dur="10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7" dur="10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2" dur="10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5" name="图片 58373" descr=""/>
          <p:cNvPicPr/>
          <p:nvPr/>
        </p:nvPicPr>
        <p:blipFill>
          <a:blip r:embed="rId1"/>
          <a:stretch/>
        </p:blipFill>
        <p:spPr>
          <a:xfrm>
            <a:off x="304920" y="1623960"/>
            <a:ext cx="8534160" cy="3610080"/>
          </a:xfrm>
          <a:prstGeom prst="rect">
            <a:avLst/>
          </a:prstGeom>
          <a:ln w="0">
            <a:noFill/>
          </a:ln>
        </p:spPr>
      </p:pic>
      <p:pic>
        <p:nvPicPr>
          <p:cNvPr id="936" name="Picture 1" descr=""/>
          <p:cNvPicPr/>
          <p:nvPr/>
        </p:nvPicPr>
        <p:blipFill>
          <a:blip r:embed="rId2"/>
          <a:stretch/>
        </p:blipFill>
        <p:spPr>
          <a:xfrm>
            <a:off x="5867280" y="2363760"/>
            <a:ext cx="1729080" cy="447840"/>
          </a:xfrm>
          <a:prstGeom prst="rect">
            <a:avLst/>
          </a:prstGeom>
          <a:ln w="0">
            <a:noFill/>
          </a:ln>
        </p:spPr>
      </p:pic>
      <p:pic>
        <p:nvPicPr>
          <p:cNvPr id="937" name="Picture 1" descr=""/>
          <p:cNvPicPr/>
          <p:nvPr/>
        </p:nvPicPr>
        <p:blipFill>
          <a:blip r:embed="rId3"/>
          <a:stretch/>
        </p:blipFill>
        <p:spPr>
          <a:xfrm>
            <a:off x="5651640" y="2997360"/>
            <a:ext cx="1296720" cy="447480"/>
          </a:xfrm>
          <a:prstGeom prst="rect">
            <a:avLst/>
          </a:prstGeom>
          <a:ln w="0">
            <a:noFill/>
          </a:ln>
        </p:spPr>
      </p:pic>
      <p:pic>
        <p:nvPicPr>
          <p:cNvPr id="938" name="Picture 1" descr=""/>
          <p:cNvPicPr/>
          <p:nvPr/>
        </p:nvPicPr>
        <p:blipFill>
          <a:blip r:embed="rId4"/>
          <a:stretch/>
        </p:blipFill>
        <p:spPr>
          <a:xfrm>
            <a:off x="7451640" y="3573360"/>
            <a:ext cx="1297080" cy="44784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1" descr=""/>
          <p:cNvPicPr/>
          <p:nvPr/>
        </p:nvPicPr>
        <p:blipFill>
          <a:blip r:embed="rId5"/>
          <a:stretch/>
        </p:blipFill>
        <p:spPr>
          <a:xfrm>
            <a:off x="1403280" y="4105440"/>
            <a:ext cx="865080" cy="447480"/>
          </a:xfrm>
          <a:prstGeom prst="rect">
            <a:avLst/>
          </a:prstGeom>
          <a:ln w="0">
            <a:noFill/>
          </a:ln>
        </p:spPr>
      </p:pic>
      <p:pic>
        <p:nvPicPr>
          <p:cNvPr id="940" name="Picture 1" descr=""/>
          <p:cNvPicPr/>
          <p:nvPr/>
        </p:nvPicPr>
        <p:blipFill>
          <a:blip r:embed="rId6"/>
          <a:stretch/>
        </p:blipFill>
        <p:spPr>
          <a:xfrm>
            <a:off x="6213600" y="4695840"/>
            <a:ext cx="172872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9" dur="10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4" dur="10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9" dur="10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000"/>
                            </p:stCondLst>
                            <p:childTnLst>
                              <p:par>
                                <p:cTn id="72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3" dur="10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8" dur="10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1" name="图片 57352" descr=""/>
          <p:cNvPicPr/>
          <p:nvPr/>
        </p:nvPicPr>
        <p:blipFill>
          <a:blip r:embed="rId1"/>
          <a:stretch/>
        </p:blipFill>
        <p:spPr>
          <a:xfrm>
            <a:off x="619200" y="981000"/>
            <a:ext cx="790560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2" name="图片 56324" descr=""/>
          <p:cNvPicPr/>
          <p:nvPr/>
        </p:nvPicPr>
        <p:blipFill>
          <a:blip r:embed="rId1"/>
          <a:stretch/>
        </p:blipFill>
        <p:spPr>
          <a:xfrm>
            <a:off x="981000" y="1747800"/>
            <a:ext cx="7182000" cy="3362400"/>
          </a:xfrm>
          <a:prstGeom prst="rect">
            <a:avLst/>
          </a:prstGeom>
          <a:ln w="0">
            <a:noFill/>
          </a:ln>
        </p:spPr>
      </p:pic>
      <p:pic>
        <p:nvPicPr>
          <p:cNvPr id="943" name="Picture 1" descr=""/>
          <p:cNvPicPr/>
          <p:nvPr/>
        </p:nvPicPr>
        <p:blipFill>
          <a:blip r:embed="rId2"/>
          <a:stretch/>
        </p:blipFill>
        <p:spPr>
          <a:xfrm>
            <a:off x="5853240" y="1916280"/>
            <a:ext cx="1152360" cy="447480"/>
          </a:xfrm>
          <a:prstGeom prst="rect">
            <a:avLst/>
          </a:prstGeom>
          <a:ln w="0">
            <a:noFill/>
          </a:ln>
        </p:spPr>
      </p:pic>
      <p:pic>
        <p:nvPicPr>
          <p:cNvPr id="944" name="Picture 1" descr=""/>
          <p:cNvPicPr/>
          <p:nvPr/>
        </p:nvPicPr>
        <p:blipFill>
          <a:blip r:embed="rId3"/>
          <a:stretch/>
        </p:blipFill>
        <p:spPr>
          <a:xfrm>
            <a:off x="3132000" y="3659040"/>
            <a:ext cx="158436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5" dur="10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0" dur="10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5" name="图片 55300" descr=""/>
          <p:cNvPicPr/>
          <p:nvPr/>
        </p:nvPicPr>
        <p:blipFill>
          <a:blip r:embed="rId1"/>
          <a:stretch/>
        </p:blipFill>
        <p:spPr>
          <a:xfrm>
            <a:off x="414360" y="1643040"/>
            <a:ext cx="831528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6" name="图片 54276" descr=""/>
          <p:cNvPicPr/>
          <p:nvPr/>
        </p:nvPicPr>
        <p:blipFill>
          <a:blip r:embed="rId1"/>
          <a:stretch/>
        </p:blipFill>
        <p:spPr>
          <a:xfrm>
            <a:off x="971640" y="816120"/>
            <a:ext cx="7200720" cy="578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7" name="图片 52231" descr=""/>
          <p:cNvPicPr/>
          <p:nvPr/>
        </p:nvPicPr>
        <p:blipFill>
          <a:blip r:embed="rId1"/>
          <a:stretch/>
        </p:blipFill>
        <p:spPr>
          <a:xfrm>
            <a:off x="604800" y="2057400"/>
            <a:ext cx="7934400" cy="2743200"/>
          </a:xfrm>
          <a:prstGeom prst="rect">
            <a:avLst/>
          </a:prstGeom>
          <a:ln w="0">
            <a:noFill/>
          </a:ln>
        </p:spPr>
      </p:pic>
      <p:pic>
        <p:nvPicPr>
          <p:cNvPr id="948" name="Picture 1" descr=""/>
          <p:cNvPicPr/>
          <p:nvPr/>
        </p:nvPicPr>
        <p:blipFill>
          <a:blip r:embed="rId2"/>
          <a:stretch/>
        </p:blipFill>
        <p:spPr>
          <a:xfrm>
            <a:off x="468360" y="3500280"/>
            <a:ext cx="8136000" cy="14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7" dur="10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20T08:26:28Z</dcterms:modified>
  <cp:revision>19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